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F5F2-CF1D-41BE-9C27-C8B430A120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49AA-BCF7-4E31-8F5F-1B3A16F1B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F94C-E320-4A72-A6AA-B0FEE0804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8748-7F47-4055-B886-20A0406BF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171C-FACC-4E6C-95CC-DF6D6DA0A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the graph demonstrates that most businesses in the United States are entrepreneursh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entrepreneurship benefits a country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ngthening the econom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how things are don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ing unmet need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produ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ases, the entrepreneurs described started businesses that are large corporation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ut that not everyone is suitable for entrepreneur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hobbies, interests, and past experiences may suggest the type of business to 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aptitude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ility to learn a particular kind of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you find out about different business opportun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B1CF-8ADC-43EE-97A0-0CACB0B6B5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ADBC-CE77-4712-B3FD-266485E37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Date Placeholder 3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0799-A0DA-4538-8665-547CC5C953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36C1-5287-4396-B556-2B3138A9E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A673-FF86-4F23-A64D-FC9911044E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8A4C-1DBB-4406-B7EE-748632EE3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2C0B-8AFD-42F9-B2BD-B222D9AE6C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5892-53C3-408B-BB72-F74466024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the definition of an entreprene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difference between employees and entreprene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loyees risk li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why people become entrepreneu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ve the corporate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at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sue a personal d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think the advantages of entrepreneurship outweigh the disadvant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or why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each characterist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think of an example to illustrate each characterist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students to the chart in their book, and discuss examples in the community of some of the types of businesses lis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think of other examples and to categorize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78F99-3E7B-407B-BBF1-9509731AF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667CE-ABB9-4BD7-88DC-A2CF3C45D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E1675-D285-4A56-AB5A-7E5114B6E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4C645-3FB2-439A-97DA-656B6552A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EDA3F-9647-4E0B-9B7F-59E04835E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A752C-985F-4F35-81B4-DA6E636E6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DFE31-1809-463A-91D4-2263A15E2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434D8-AA48-49FA-9CA9-98317DC41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75101-7D8A-4DCD-8AAF-B6CCA7BB8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8FEFE-A80A-44E9-A53A-8458ABACB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7820C-45FA-4246-9674-C1DDD54B5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FC041-FFD8-4C3C-80B0-C97839C42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492960"/>
            <a:ext cx="9144000" cy="365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85800" y="6553080"/>
            <a:ext cx="533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 Narrow"/>
              </a:rPr>
              <a:t>ENTREPRENEURSHIP: Ideas in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5181480" y="6553080"/>
            <a:ext cx="323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 Narrow"/>
              </a:rPr>
              <a:t>© SOUTH-WESTERN PUBLIS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7543800" y="132840"/>
            <a:ext cx="1447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077320" y="456840"/>
            <a:ext cx="914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BC2E6690-DEB0-4BC1-BC2A-B7F92801AC5E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6492960"/>
            <a:ext cx="9144000" cy="365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85800" y="6553080"/>
            <a:ext cx="533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 Narrow"/>
              </a:rPr>
              <a:t>ENTREPRENEURSHIP: Ideas in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5181480" y="6553080"/>
            <a:ext cx="323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 Narrow"/>
              </a:rPr>
              <a:t>© SOUTH-WESTERN PUBLIS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685440" y="228240"/>
            <a:ext cx="8077320" cy="6858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4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74070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Impact"/>
              </a:rPr>
              <a:t>Entrepreneurship</a:t>
            </a:r>
            <a:r>
              <a:rPr b="0" lang="en-US" sz="48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48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4800" spc="-1" strike="noStrike">
                <a:solidFill>
                  <a:srgbClr val="000099"/>
                </a:solidFill>
                <a:latin typeface="Impact"/>
              </a:rPr>
              <a:t>	</a:t>
            </a:r>
            <a:endParaRPr b="0" lang="en-US" sz="48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99"/>
                </a:solidFill>
                <a:latin typeface="Arial"/>
              </a:rPr>
              <a:t>DO NOW: Get a Book from the Closet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lnSpc>
                <a:spcPct val="100000"/>
              </a:lnSpc>
              <a:spcBef>
                <a:spcPts val="726"/>
              </a:spcBef>
              <a:buClr>
                <a:srgbClr val="339933"/>
              </a:buClr>
              <a:buFont typeface="Arial"/>
              <a:buChar char="•"/>
              <a:tabLst>
                <a:tab algn="l" pos="466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Arial"/>
              </a:rPr>
              <a:t>Page 3 Read Delia’s Dilemm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lnSpc>
                <a:spcPct val="100000"/>
              </a:lnSpc>
              <a:spcBef>
                <a:spcPts val="726"/>
              </a:spcBef>
              <a:buClr>
                <a:srgbClr val="339933"/>
              </a:buClr>
              <a:buFont typeface="Arial"/>
              <a:buChar char="•"/>
              <a:tabLst>
                <a:tab algn="l" pos="466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Arial"/>
              </a:rPr>
              <a:t>Answer questions 1 - 4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466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Arial"/>
              </a:rPr>
              <a:t>We will be taking notes and doing book work today. Make sure you have a pen and notebook!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8B118D48-CB17-46FF-9D23-0F9BD4C854EF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EXAMPLES OF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OLESALING BUSINESSE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a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al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ceries and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, plumbing, hea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ber, construction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ry, equipment, 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 vehicles, automotiv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, paper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oleum, petroleum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FF135308-08C9-467D-B0D5-03208D063499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EXAMPLES OF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RETAILING BUSINESSE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 and home supply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materials and supply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thing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niture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t, novelty, and souvenir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cery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elry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l bak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e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rting goods and bicycle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F959551A-8288-4C39-AB1E-14131CD34998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EXAMPLES OF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SERVICE BUSINESSE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ance 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otive 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s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ce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min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er deco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 cl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n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m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8B69D7AF-F496-41E1-8FE7-3C44066AF58B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SMALL BUSINESSES DOMINATE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THE U.S. ECONOMY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693720" y="1766880"/>
          <a:ext cx="81374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766880"/>
                    <a:ext cx="8137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57F8323A-EB75-4FDD-A2E0-1C0794A04362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ENTREPRENEURS IN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UNITED STATES HISTORY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 who changed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neteenth century entrepre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 entrepre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5.8 small businesses contribute to the econo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usinesses employ more workers than all of the country’s large corporations comb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3908E4AB-A4C7-41DB-9861-DE40A6AE1B53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ASSESS YOUR SUITABILITY FOR ENTREPRENEURSHIP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your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bbies and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your ap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5470FE0C-1B75-493F-9407-F847AF75B871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JOB ATTRIBUTES CHECKLIST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524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enjoy working with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24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enjoy working outdo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24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enjoy working with my h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24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enjoy sel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24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working with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24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efer to work al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24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supervising other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24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knowing exactly what it is I am supposed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1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2E394CC8-F4A8-41FB-8F55-BF554A87040A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33"/>
                </a:solidFill>
                <a:latin typeface="Times New Roman"/>
              </a:rPr>
              <a:t>Lesson 1.3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IDENTIFY BUSINESS OPPORTUNITIES AND SET GOAL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71440" y="2743200"/>
            <a:ext cx="56372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different businesses you could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your own personal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-211680" y="2666880"/>
            <a:ext cx="3455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Impact"/>
              </a:rPr>
              <a:t>GOAL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4A96CA6A-8E11-45B0-A059-FBFDE636F81B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INVESTIGATE OPPORTUNITIE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 on entrepreneurshi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amp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azin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ntrepreneurs and trade magazines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certain businesses (examp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publication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y Business Patterns (example of government grant pub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preneur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Business Administr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ba.go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shows and trade associ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ample list of trade sho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09480" y="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ze different businesses you could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BF797FCB-B454-4742-9D67-F1BD01870E91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Impact"/>
              </a:rPr>
              <a:t>COMPARE DIFFERENT</a:t>
            </a: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Impact"/>
              </a:rPr>
              <a:t>OPPORTUNITIES</a:t>
            </a:r>
            <a:endParaRPr b="0" lang="en-US" sz="3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market? Will people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money would it take? Will I be able to borrow that mu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hours a week are required? Am I willing to commit that much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risks? What is the rate of business fail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I have the right background? Do others who own this kind of business have more experi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money could I ma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09480" y="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ze different businesses you could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685800" y="228600"/>
            <a:ext cx="8077320" cy="6858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837720"/>
            <a:ext cx="6627960" cy="164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Impact"/>
              </a:rPr>
              <a:t>SHOULD YOU BECOME AN ENTREPRENEUR?</a:t>
            </a:r>
            <a:endParaRPr b="0" lang="en-US" sz="48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240" y="320004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95160" indent="0">
              <a:spcBef>
                <a:spcPts val="799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.1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trepreneurs (1-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5160" indent="0">
              <a:spcBef>
                <a:spcPts val="799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.2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s Entrepreneurship Right for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5160" indent="0">
              <a:spcBef>
                <a:spcPts val="799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.3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dentify Business Opportunities and Se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4120" y="2482560"/>
            <a:ext cx="23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9933"/>
                </a:solidFill>
                <a:uFillTx/>
                <a:latin typeface="Impact"/>
              </a:rPr>
              <a:t>LES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C926E610-F32D-470A-A586-9A0797320A30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SETTING GOAL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oney you will 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quickly you can pay off deb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financial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a community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something you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joy personal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99240" y="0"/>
            <a:ext cx="42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your own personal go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228600"/>
            <a:ext cx="8077320" cy="6858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22960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7550E3D2-3DCE-4F81-B87C-186BF1E017FE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85800" y="228600"/>
            <a:ext cx="8077320" cy="6858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hapter 1 Think Criticall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914040" y="129492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oose a business idea that appeals to you. For this business, answer the six assessment questions listed in this lesson. Is this a realistic choice for you?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06E77846-0DC6-40A1-B616-413523C48C28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IS AN ENTREPRENEUR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77600" indent="-32976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ho own, operate, and take the risk of a business venture are called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ntreprene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7600" indent="-32976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ntrepreneur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cess of running a business of one’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mployees vs. entrepreneurs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y do people become entrepreneur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64C336DB-1FD8-48AA-B829-67582A471386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ADVANTAGES OF ENTREPRENEURSHIP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 are their own boss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 can choose a business that interests the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 can be creativ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 can make lots of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C9C9D119-CF52-4B73-A6B6-89ED443D123D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DISADVANTAGES OF ENTREPRENEURSHIP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hip is risk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 face uncertain and irregular incom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 work long hour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 must make all decisions by themse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62AFD1D1-C749-4C21-ADB8-DCCF551A4927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HARACTERISTICS OF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SUCCESSFUL ENTREPRENEUR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entrepre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elf-conf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determination and persev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goal-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eed to achieve and to set high standards for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re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ble to act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1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4578C3DC-C9D7-4A23-93E8-CE23A0343F9E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IS ENTREPRENEURSHIP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RIGHT FOR YOU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71440" y="2743200"/>
            <a:ext cx="56372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haracteristics of successful entreprene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whether you have what it takes to succeed in your own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-211680" y="2666880"/>
            <a:ext cx="3455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Impact"/>
              </a:rPr>
              <a:t>GOAL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46855EA0-FA48-477F-81B3-A1991008738B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TYPES OF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ENTREPRENEURIAL BUSINESSE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s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a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ng and extra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D98D21D1-4862-421A-A427-57373DA362B1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EXAMPLES OF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MANUFACTURING BUSINESSE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arel and other textile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s and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s and other electrical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bricated metal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machinery an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ing and publ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ber and miscellaneous plastic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ne, clay, and glass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21:14:40Z</dcterms:created>
  <dc:creator>M. C. McLaughlin</dc:creator>
  <dc:description/>
  <dc:language>en-US</dc:language>
  <cp:lastModifiedBy>008736</cp:lastModifiedBy>
  <dcterms:modified xsi:type="dcterms:W3CDTF">2011-09-21T12:25:00Z</dcterms:modified>
  <cp:revision>42</cp:revision>
  <dc:subject/>
  <dc:title>SHOULD YOU BECOME AN ENTREPRENEUR?</dc:title>
</cp:coreProperties>
</file>